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EA7-7662-47A0-B8BF-159954C9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849-2BB1-4AAE-A620-08E5CF73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CC1-0808-4661-9802-B85AF42B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D21-249D-49D4-B120-7C9A71A7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343-8635-421A-AC20-A6FDFA84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BCA-08CD-4321-BD0F-1F5783FA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6C1-D9A2-43E7-8526-839DA842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6E6-80C3-4372-80CD-59CEEBE0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D8B-42A6-406C-BD06-FFD7ACF5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144-E29C-41DE-BCAB-89D836FF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D84-E68E-4E90-9220-63A20D70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307-DED4-4CA0-B993-0C82439C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A2DE-9B51-48E6-ADB3-3B84FE3EA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1981080" y="-314280"/>
            <a:ext cx="5105520" cy="3514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1981080" y="3176640"/>
            <a:ext cx="4953240" cy="4062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1981080" y="-380880"/>
            <a:ext cx="487692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6"/>
          <a:stretch/>
        </p:blipFill>
        <p:spPr>
          <a:xfrm>
            <a:off x="2133720" y="0"/>
            <a:ext cx="139068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7"/>
          <a:stretch/>
        </p:blipFill>
        <p:spPr>
          <a:xfrm>
            <a:off x="3733920" y="76320"/>
            <a:ext cx="317808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371600" y="6553080"/>
            <a:ext cx="601992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~PP2122.WAV" descr=""/>
          <p:cNvPicPr/>
          <p:nvPr/>
        </p:nvPicPr>
        <p:blipFill>
          <a:blip r:embed="rId9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6413760" cy="6019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2666880" y="152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haler Tip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~PP2011.WAV" descr=""/>
          <p:cNvPicPr/>
          <p:nvPr/>
        </p:nvPicPr>
        <p:blipFill>
          <a:blip r:embed="rId3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2:38:26Z</dcterms:created>
  <dc:creator>Jamie</dc:creator>
  <dc:description/>
  <dc:language>en-US</dc:language>
  <cp:lastModifiedBy>Jamie</cp:lastModifiedBy>
  <dcterms:modified xsi:type="dcterms:W3CDTF">2007-11-28T04:00:15Z</dcterms:modified>
  <cp:revision>9</cp:revision>
  <dc:subject/>
  <dc:title>Slide 1</dc:title>
</cp:coreProperties>
</file>